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9B0-F31D-425F-8639-4D57647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5B7-5A85-4B79-B86F-075F728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86B-93F4-40F6-A79E-71A1E3FA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08D-D56F-4DB7-B990-0E61500C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CC8EA-DBB7-4735-8FEB-88C2BBB2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68AA9-98C6-4F76-9AB0-3DAD14D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A5D9E-F675-461D-BD8C-19F1E0D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CE65-E7AD-4914-910F-448141F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AA0C3-98FC-4C88-A056-C5DF45D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4AE0-ED7E-4B7D-89AE-D00573F1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D82CE-4B85-49DA-84B2-8E8DD7A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300-30B3-4892-9645-0D08D92E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7D6F2-D6CE-48D4-ABB3-944D885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B7665-EA06-4057-BADD-FE5BBB1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ED857-E80E-4F69-B4DE-82447A6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BAA34-529F-4980-8FEF-CB3A977B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C04EB-9489-4381-AA3B-2C4AB60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5A6-F6F5-4D30-B45F-ACDDBB5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4E7-12B0-45F5-A08F-0E9A4A4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975-F747-49E1-A527-F79000DE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67E-03BE-42FC-88D7-1EA15884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E5C-36E1-4641-8A00-6713581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173-6D1E-4E5C-8219-125D786C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522-0E0D-4700-9DDF-B2FD917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6173-E14D-453F-AD72-4485FE6521C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54A1-E71A-4889-8CC6-DC1493E5FFE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5280" y="907920"/>
            <a:ext cx="2808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ODULO BASE I </a:t>
            </a:r>
            <a:endParaRPr b="0" lang="en-US" sz="1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55640" y="3139920"/>
            <a:ext cx="77040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vorare sui concetti nella relazione genitore-figlio: </a:t>
            </a:r>
            <a:endParaRPr b="0" lang="en-US" sz="1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gnificazione, scomposizione e analisi</a:t>
            </a:r>
            <a:endParaRPr b="0" lang="en-US" sz="1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29440" y="595008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00"/>
                </a:solidFill>
                <a:latin typeface="Tahoma"/>
              </a:rPr>
              <a:t>Amantea 14/03/08 - 15/03/08 </a:t>
            </a:r>
            <a:r>
              <a:rPr b="0" i="1" lang="en-US" sz="1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295272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5640" y="476280"/>
            <a:ext cx="4321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 ulteriore esempio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413000"/>
            <a:ext cx="8353440" cy="4803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Analisi di un concetto semplice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  -non composto (come può essere quello di </a:t>
            </a:r>
            <a:r>
              <a:rPr b="0" i="1" lang="it-IT" sz="1800" spc="-1" strike="noStrike">
                <a:solidFill>
                  <a:srgbClr val="00fc00"/>
                </a:solidFill>
                <a:latin typeface="Tahoma"/>
              </a:rPr>
              <a:t>Bullismo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00fc00"/>
                </a:solidFill>
                <a:latin typeface="Tahoma"/>
              </a:rPr>
              <a:t>pedofilia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00fc00"/>
                </a:solidFill>
                <a:latin typeface="Tahoma"/>
              </a:rPr>
              <a:t>violenza 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Concetto: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CITTAD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Possibile significato: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ELET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Catena di riduzione del “significato”: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ELETTORE CHE HA VOTATO ALLE ULTIME ELEZIONI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.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ELETTORE CHE HA VOTATO ALLE ULTIME ELEZIONI E CHE VOTERà ALLE PROSSIME ELEZIONI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.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ELETTORE CHE HA VOTATO ALLE ULTIME ELEZIONI, CHE VOTERà ALLE PROSSIME ELEZIONI NEL COMUNE DI AMANTEA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. E cosi via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179280" y="638172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168720" cy="156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71640" y="2852640"/>
            <a:ext cx="72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APERTURA DIBATTITO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19640" y="6165720"/>
            <a:ext cx="352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600"/>
                </a:solidFill>
                <a:latin typeface="Times New Roman"/>
              </a:rPr>
              <a:t>ESPERTO: ERNESTO FABBRICAT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600"/>
                </a:solidFill>
                <a:latin typeface="Times New Roman"/>
              </a:rPr>
              <a:t>TUTOR: ROSALBA MAGN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76360" y="692280"/>
            <a:ext cx="63356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TERROGATIVI CHIAVE:</a:t>
            </a:r>
            <a:endParaRPr b="0" lang="en-US" sz="1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2421000"/>
            <a:ext cx="691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Perché lavorare “SUI” e non  lavorare “CON I” concetti?</a:t>
            </a:r>
            <a:endParaRPr b="0" lang="en-US" sz="1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0920" y="3716280"/>
            <a:ext cx="6697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 Che ruolo hanno i concetti nella relazione genitore-figlio? </a:t>
            </a:r>
            <a:endParaRPr b="0" lang="en-US" sz="1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5013360"/>
            <a:ext cx="7705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Perché nel titolo si parla di SIGNIFICAZIONE, SCOMPOSIZIONE E ANALISI?</a:t>
            </a:r>
            <a:endParaRPr b="0" lang="en-US" sz="1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692280"/>
            <a:ext cx="68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rtiamo subito dal primo interrogativo:</a:t>
            </a:r>
            <a:endParaRPr b="0" lang="en-US" sz="1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2924280"/>
            <a:ext cx="5400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Lavorare "SUI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1557360"/>
            <a:ext cx="144720" cy="1152360"/>
          </a:xfrm>
          <a:prstGeom prst="downArrow">
            <a:avLst>
              <a:gd name="adj1" fmla="val 59343"/>
              <a:gd name="adj2" fmla="val 168912"/>
            </a:avLst>
          </a:prstGeom>
          <a:noFill/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284640"/>
            <a:ext cx="144360" cy="649080"/>
          </a:xfrm>
          <a:prstGeom prst="downArrow">
            <a:avLst>
              <a:gd name="adj1" fmla="val 59343"/>
              <a:gd name="adj2" fmla="val 95379"/>
            </a:avLst>
          </a:prstGeom>
          <a:noFill/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149720"/>
            <a:ext cx="7058160" cy="2037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Per rispondere a tale interrogativo bisogna chieders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f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Che cos’è un “CONCETTO”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f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Che cosa “Immaginiamo” quando parliamo di “CONCETTO”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f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Da cosa è formato un “CONCETTO”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404640"/>
            <a:ext cx="77040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fc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risposta a tale "VITALE" interrogativo sarete voi a fornirmela!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f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3357720"/>
            <a:ext cx="2519280" cy="48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fc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 che modo?</a:t>
            </a:r>
            <a:endParaRPr b="0" i="1" lang="en-US" sz="1400" spc="1" strike="noStrike">
              <a:ln w="0">
                <a:noFill/>
              </a:ln>
              <a:gradFill rotWithShape="0">
                <a:gsLst>
                  <a:gs pos="0">
                    <a:srgbClr val="00f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1112760"/>
            <a:ext cx="5472000" cy="5317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Situazione Tipico-ide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9933"/>
                </a:solidFill>
                <a:uFillTx/>
                <a:latin typeface="Tahoma"/>
              </a:rPr>
              <a:t>Andate a prendere Vostro/a  figlio/a al termine di  una giornata a scuola e vi dic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ff9933"/>
                </a:solidFill>
                <a:latin typeface="Tahoma"/>
              </a:rPr>
              <a:t>Mamma (o papà) sono triste: i miei compagni di classe mi scherzano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Vostro/a figlio/a all’uscita dalla scuola scoppia a piangere e vi dice: </a:t>
            </a:r>
            <a:r>
              <a:rPr b="0" i="1" lang="it-IT" sz="1800" spc="-1" strike="noStrike">
                <a:solidFill>
                  <a:srgbClr val="ff9933"/>
                </a:solidFill>
                <a:latin typeface="Tahoma"/>
              </a:rPr>
              <a:t>i miei compagni di classe mi prendono in giro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9933"/>
                </a:solidFill>
                <a:latin typeface="Tahoma"/>
              </a:rPr>
              <a:t>Mamma (o papà) non voglio più andare a scuola: i miei compagni di classe mi scherzano, mi prendono in giro !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386920" y="645336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3794"/>
                </a:moveTo>
                <a:lnTo>
                  <a:pt x="31269" y="10800"/>
                </a:lnTo>
                <a:lnTo>
                  <a:pt x="17257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250920" y="645336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0000" y="765000"/>
            <a:ext cx="2951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f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PPURE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00f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492280"/>
            <a:ext cx="6986880" cy="3327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fc00"/>
                </a:solidFill>
                <a:latin typeface="Tahoma"/>
              </a:rPr>
              <a:t>Seconda situazione “tipico-ideale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ahoma"/>
              </a:rPr>
              <a:t>Vostro/a  figlio/a al termine di  una giornata a scuola torna a casa e all’ora di pranzo vi d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Tahoma"/>
              </a:rPr>
              <a:t>Mamma (o papà) che cos’è questa cosa? Che schifo, non la voglio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386920" y="645336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3794"/>
                </a:moveTo>
                <a:lnTo>
                  <a:pt x="31269" y="10800"/>
                </a:lnTo>
                <a:lnTo>
                  <a:pt x="17257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250920" y="638172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29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f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PPURE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00f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25360"/>
            <a:ext cx="7777440" cy="486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fc00"/>
                </a:solidFill>
                <a:latin typeface="Tahoma"/>
              </a:rPr>
              <a:t>Terza situazione “tipico-ideale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9933"/>
                </a:solidFill>
                <a:uFillTx/>
                <a:latin typeface="Tahoma"/>
              </a:rPr>
              <a:t>Vostro/a figlio/a al termine di una giornata a scuola torna a casa e quando è il momento di fare i compiti vi d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9933"/>
                </a:solidFill>
                <a:latin typeface="Tahoma"/>
              </a:rPr>
              <a:t>Mamma (o papà) se ci sei tu ad  aiutarmi li faccio altrimenti da solo mi scocci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9933"/>
                </a:solidFill>
                <a:uFillTx/>
                <a:latin typeface="Tahoma"/>
              </a:rPr>
              <a:t>Opp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Tahoma"/>
              </a:rPr>
              <a:t>Vostro figlio sta davanti la TV, gioca nella propria stanzetta, gira per casa; insomma dovete esser voi a spingerlo costantemente a fare i compiti assegnati dalle maestre !</a:t>
            </a:r>
            <a:r>
              <a:rPr b="0" i="1" lang="it-IT" sz="20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386920" y="645336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3794"/>
                </a:moveTo>
                <a:lnTo>
                  <a:pt x="31269" y="10800"/>
                </a:lnTo>
                <a:lnTo>
                  <a:pt x="17257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179280" y="6453360"/>
            <a:ext cx="649440" cy="28872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53" h="21600">
                <a:moveTo>
                  <a:pt x="0" y="0"/>
                </a:moveTo>
                <a:lnTo>
                  <a:pt x="48553" y="0"/>
                </a:lnTo>
                <a:lnTo>
                  <a:pt x="48553" y="21600"/>
                </a:lnTo>
                <a:lnTo>
                  <a:pt x="0" y="21600"/>
                </a:lnTo>
                <a:close/>
              </a:path>
              <a:path fill="lightenLess" w="48553" h="21600">
                <a:moveTo>
                  <a:pt x="0" y="0"/>
                </a:moveTo>
                <a:lnTo>
                  <a:pt x="48553" y="0"/>
                </a:lnTo>
                <a:lnTo>
                  <a:pt x="47153" y="1400"/>
                </a:lnTo>
                <a:lnTo>
                  <a:pt x="1400" y="1400"/>
                </a:lnTo>
                <a:close/>
              </a:path>
              <a:path fill="darken" w="48553" h="21600">
                <a:moveTo>
                  <a:pt x="48553" y="0"/>
                </a:moveTo>
                <a:lnTo>
                  <a:pt x="48553" y="21600"/>
                </a:lnTo>
                <a:lnTo>
                  <a:pt x="47153" y="20200"/>
                </a:lnTo>
                <a:lnTo>
                  <a:pt x="47153" y="1400"/>
                </a:lnTo>
                <a:close/>
              </a:path>
              <a:path fill="darkenLess" w="48553" h="21600">
                <a:moveTo>
                  <a:pt x="4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3" y="20200"/>
                </a:lnTo>
                <a:close/>
              </a:path>
              <a:path fill="lighten" w="4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3" h="21600">
                <a:moveTo>
                  <a:pt x="17270" y="10800"/>
                </a:moveTo>
                <a:lnTo>
                  <a:pt x="31283" y="3794"/>
                </a:lnTo>
                <a:lnTo>
                  <a:pt x="31283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763640" y="476280"/>
            <a:ext cx="5472000" cy="4321080"/>
            <a:chOff x="1763640" y="476280"/>
            <a:chExt cx="5472000" cy="4321080"/>
          </a:xfrm>
        </p:grpSpPr>
        <p:sp>
          <p:nvSpPr>
            <p:cNvPr id="115" name=""/>
            <p:cNvSpPr/>
            <p:nvPr/>
          </p:nvSpPr>
          <p:spPr>
            <a:xfrm>
              <a:off x="5508720" y="3429000"/>
              <a:ext cx="1584360" cy="289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285800">
              <a:off x="6124320" y="2852280"/>
              <a:ext cx="215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745600">
              <a:off x="6047280" y="2745720"/>
              <a:ext cx="288720" cy="1512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18080" y="3284640"/>
              <a:ext cx="1585800" cy="360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860200">
              <a:off x="4392000" y="2672640"/>
              <a:ext cx="288720" cy="1512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285800">
              <a:off x="4427280" y="2707920"/>
              <a:ext cx="215640" cy="15127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8000" y="3429000"/>
              <a:ext cx="1513080" cy="2872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3043800">
              <a:off x="2457360" y="2768400"/>
              <a:ext cx="328680" cy="1573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581000">
              <a:off x="2515680" y="2781360"/>
              <a:ext cx="255600" cy="15127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4" name="_s30745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5195160" y="1113840"/>
              <a:ext cx="229320" cy="1600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30744"/>
            <p:cNvCxnSpPr>
              <a:stCxn id="128" idx="0"/>
              <a:endCxn id="126" idx="2"/>
            </p:cNvCxnSpPr>
            <p:nvPr/>
          </p:nvCxnSpPr>
          <p:spPr>
            <a:xfrm flipV="1">
              <a:off x="4510080" y="1799640"/>
              <a:ext cx="216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30743"/>
            <p:cNvCxnSpPr>
              <a:stCxn id="130" idx="0"/>
              <a:endCxn id="126" idx="2"/>
            </p:cNvCxnSpPr>
            <p:nvPr/>
          </p:nvCxnSpPr>
          <p:spPr>
            <a:xfrm flipH="1" flipV="1" rot="5400000">
              <a:off x="3595320" y="1113840"/>
              <a:ext cx="229320" cy="1600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6" name="_s30739"/>
            <p:cNvSpPr/>
            <p:nvPr/>
          </p:nvSpPr>
          <p:spPr>
            <a:xfrm>
              <a:off x="3824280" y="1343160"/>
              <a:ext cx="137160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fc00"/>
                  </a:solidFill>
                  <a:latin typeface="Times New Roman"/>
                </a:rPr>
                <a:t>Concetto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30740"/>
            <p:cNvSpPr/>
            <p:nvPr/>
          </p:nvSpPr>
          <p:spPr>
            <a:xfrm>
              <a:off x="2224080" y="2028960"/>
              <a:ext cx="137160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fc00"/>
                  </a:solidFill>
                  <a:latin typeface="Times New Roman"/>
                </a:rPr>
                <a:t>Dimension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30741"/>
            <p:cNvSpPr/>
            <p:nvPr/>
          </p:nvSpPr>
          <p:spPr>
            <a:xfrm>
              <a:off x="3824280" y="2028960"/>
              <a:ext cx="137160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fc00"/>
                  </a:solidFill>
                  <a:latin typeface="Times New Roman"/>
                </a:rPr>
                <a:t>Dimensio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30742"/>
            <p:cNvSpPr/>
            <p:nvPr/>
          </p:nvSpPr>
          <p:spPr>
            <a:xfrm>
              <a:off x="5424480" y="2028960"/>
              <a:ext cx="137160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fc00"/>
                  </a:solidFill>
                  <a:latin typeface="Times New Roman"/>
                </a:rPr>
                <a:t>Dimensio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00720" y="2565360"/>
              <a:ext cx="10800" cy="647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259080"/>
              <a:ext cx="10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fc00"/>
                  </a:solidFill>
                  <a:uFillTx/>
                  <a:latin typeface="Times New Roman"/>
                </a:rPr>
                <a:t>Indicatori</a:t>
              </a:r>
              <a:r>
                <a:rPr b="0" lang="en-US" sz="1600" spc="-1" strike="noStrike">
                  <a:solidFill>
                    <a:srgbClr val="00fc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56360" y="2565360"/>
              <a:ext cx="82440" cy="647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81520" y="3379680"/>
              <a:ext cx="108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 </a:t>
              </a:r>
              <a:r>
                <a:rPr b="0" i="1" lang="en-US" sz="1600" spc="-1" strike="noStrike" u="sng">
                  <a:solidFill>
                    <a:srgbClr val="00fc00"/>
                  </a:solidFill>
                  <a:uFillTx/>
                  <a:latin typeface="Times New Roman"/>
                </a:rPr>
                <a:t>Indicator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0920" y="335772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fc00"/>
                  </a:solidFill>
                  <a:uFillTx/>
                  <a:latin typeface="Times New Roman"/>
                </a:rPr>
                <a:t> </a:t>
              </a:r>
              <a:r>
                <a:rPr b="0" i="1" lang="en-US" sz="1600" spc="-1" strike="noStrike" u="sng">
                  <a:solidFill>
                    <a:srgbClr val="00fc00"/>
                  </a:solidFill>
                  <a:uFillTx/>
                  <a:latin typeface="Times New Roman"/>
                </a:rPr>
                <a:t>Indicator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59280" y="3933720"/>
              <a:ext cx="576000" cy="79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0720" y="3789360"/>
              <a:ext cx="144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506920" y="3860640"/>
              <a:ext cx="64944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763640" y="476280"/>
              <a:ext cx="5472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gradFill rotWithShape="0">
                    <a:gsLst>
                      <a:gs pos="0">
                        <a:srgbClr val="00fc0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Modello semantico riduttivo trasformativo</a:t>
              </a:r>
              <a:endPara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fc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700360" y="2565360"/>
              <a:ext cx="216000" cy="647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43280" y="5013360"/>
            <a:ext cx="3313080" cy="3373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c00"/>
                </a:solidFill>
                <a:latin typeface="Times New Roman"/>
              </a:rPr>
              <a:t>Comportamento osserva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179280" y="638172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11280" y="62064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la domanda precendente quindi, cosa possiamo rispondere? </a:t>
            </a:r>
            <a:endParaRPr b="0" i="1" lang="en-US" sz="12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Perché lavorare </a:t>
            </a:r>
            <a:r>
              <a:rPr b="0" i="1" lang="en-US" sz="1800" spc="-1" strike="noStrike">
                <a:solidFill>
                  <a:srgbClr val="00fc00"/>
                </a:solidFill>
                <a:latin typeface="Tahoma"/>
              </a:rPr>
              <a:t>SUI </a:t>
            </a:r>
            <a:r>
              <a:rPr b="0" lang="en-US" sz="1800" spc="-1" strike="noStrike">
                <a:solidFill>
                  <a:srgbClr val="00fc00"/>
                </a:solidFill>
                <a:latin typeface="Tahoma"/>
              </a:rPr>
              <a:t>concetti nella relazione genitore-figli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12682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068640"/>
            <a:ext cx="8064360" cy="163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c00"/>
                </a:solidFill>
                <a:latin typeface="Times New Roman"/>
              </a:rPr>
              <a:t>Perché i Concetti, in se stessi,  sono </a:t>
            </a:r>
            <a:r>
              <a:rPr b="0" i="1" lang="en-US" sz="2000" spc="-1" strike="noStrike">
                <a:solidFill>
                  <a:srgbClr val="00fc00"/>
                </a:solidFill>
                <a:latin typeface="Times New Roman"/>
              </a:rPr>
              <a:t>contenuti mentali espressi sul piano linguistico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c00"/>
                </a:solidFill>
                <a:latin typeface="Times New Roman"/>
              </a:rPr>
              <a:t>. I Concetti non sono altro che delle </a:t>
            </a:r>
            <a:r>
              <a:rPr b="0" i="1" lang="en-US" sz="2000" spc="-1" strike="noStrike" u="sng">
                <a:solidFill>
                  <a:srgbClr val="00fc00"/>
                </a:solidFill>
                <a:uFillTx/>
                <a:latin typeface="Times New Roman"/>
              </a:rPr>
              <a:t>immagini mentali</a:t>
            </a:r>
            <a:r>
              <a:rPr b="0" i="1" lang="en-US" sz="2000" spc="-1" strike="noStrike">
                <a:solidFill>
                  <a:srgbClr val="00fc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c00"/>
                </a:solidFill>
                <a:latin typeface="Times New Roman"/>
              </a:rPr>
              <a:t>. IL CONCETTO è</a:t>
            </a:r>
            <a:r>
              <a:rPr b="0" i="1" lang="en-US" sz="2000" spc="-1" strike="noStrike">
                <a:solidFill>
                  <a:srgbClr val="00fc00"/>
                </a:solidFill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fc00"/>
                </a:solidFill>
                <a:uFillTx/>
                <a:latin typeface="Times New Roman"/>
              </a:rPr>
              <a:t>PURO SIGNIFICATO</a:t>
            </a:r>
            <a:r>
              <a:rPr b="0" lang="en-US" sz="2000" spc="-1" strike="noStrike">
                <a:solidFill>
                  <a:srgbClr val="00fc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179280" y="638172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00000" y="76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c00"/>
                </a:solidFill>
                <a:latin typeface="Tahoma"/>
              </a:rPr>
              <a:t>A cosa si riferisce un concet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989000"/>
            <a:ext cx="8424720" cy="339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Il concetto, che per noi è PURO SIGNIFICATO, si riferisce a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REFERENTI EMPIRICI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Questo significa che un qualsiasi elemento della realtà viene concettualizzato in quanto c’è un legame con un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significato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 non in quanto c’è un legame con una cos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Significa dire che lo stesso -identico- </a:t>
            </a:r>
            <a:r>
              <a:rPr b="0" i="1" lang="it-IT" sz="1800" spc="-1" strike="noStrike">
                <a:solidFill>
                  <a:srgbClr val="00fc00"/>
                </a:solidFill>
                <a:latin typeface="Tahoma"/>
              </a:rPr>
              <a:t>referente empirico 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 può entrare in catene di </a:t>
            </a:r>
            <a:r>
              <a:rPr b="0" i="1" lang="it-IT" sz="1800" spc="-1" strike="noStrike">
                <a:solidFill>
                  <a:srgbClr val="00fc00"/>
                </a:solidFill>
                <a:latin typeface="Tahoma"/>
              </a:rPr>
              <a:t>“concettualizzazioni”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 differenti (vedi modello) per cui potrei dire, ad esempio, 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che la macchina è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 (all’ interno di una determinata catena di concettualizzazione)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un mezzo di trasporto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, mentre (all’ interno di un altra catena di concettualizzazione) </a:t>
            </a:r>
            <a:r>
              <a:rPr b="0" lang="it-IT" sz="1800" spc="-1" strike="noStrike" u="sng">
                <a:solidFill>
                  <a:srgbClr val="00fc00"/>
                </a:solidFill>
                <a:uFillTx/>
                <a:latin typeface="Tahoma"/>
              </a:rPr>
              <a:t>uno status symbol</a:t>
            </a:r>
            <a:r>
              <a:rPr b="0" lang="it-IT" sz="1800" spc="-1" strike="noStrike">
                <a:solidFill>
                  <a:srgbClr val="00fc00"/>
                </a:solidFill>
                <a:latin typeface="Tahoma"/>
              </a:rPr>
              <a:t> per esempio (Ferrari e la 500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179280" y="638172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23:36Z</dcterms:created>
  <dc:creator>E</dc:creator>
  <dc:description/>
  <dc:language>en-US</dc:language>
  <cp:lastModifiedBy>Boss</cp:lastModifiedBy>
  <dcterms:modified xsi:type="dcterms:W3CDTF">2008-03-29T10:24:11Z</dcterms:modified>
  <cp:revision>27</cp:revision>
  <dc:subject/>
  <dc:title>Diapositiva 1</dc:title>
</cp:coreProperties>
</file>